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AF6F616-9BB9-4ABC-BF55-7954314E1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116D957-D03A-4943-BCE3-F7CA9896E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B2CE70D-587D-4B5E-9342-1210EA5B9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3EE9728-12BA-424A-A5C8-C18D41BAAE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66EEA8B-A34A-4355-8069-53630BB2C2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D43E329-CC9E-4568-AC44-839D4C8E3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1360AA6-9E0A-40AD-8D29-A9F41484D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35A95C7-6EE4-42C8-AE01-D8BD399773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55919D0-E480-42A6-AE8C-118A5368D7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1B42B29-1483-4093-921B-ACE0A3C156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1E52207-5F97-4932-BEDF-D7CC6C4F1F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7AE5D8F-DBA9-4BA4-9512-1FE11AB9E7B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F672FE7-AD8C-4528-AAFF-E4EB401FC05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F380BF-A842-48A9-BD93-973E927E0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419D24-B6C1-4B55-BA3A-68E4B148D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C4F6E7-7902-4F3A-9C53-FBF83419E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2F3BD8-43C4-4175-90EE-3E773B46B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F4A626-DFCE-4844-AA61-0F3981AFC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AB4EBE-2AD9-49C6-BA72-32A7EC012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E0D035-4411-4826-93BA-88005713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B890A6D-BA28-4283-834E-2EBD0F7EF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D30264-A0B5-4508-AA58-9D6F81363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3596CD-3F6A-4AC8-B70E-DE6D0F22E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1758A4-377A-4F1D-BD36-75D8EAC01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30CBB2-062F-4659-AC3A-A3274A3FE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13F3F41-A503-4B89-A6E9-FCA0A7855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AAE325-1410-43A5-9685-A7F6E166D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36A27-2E61-410B-AE5D-447A3C8F6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A78ED-1BFE-4818-AE9C-DE3F66314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24CDD-B6C6-4D4B-8F66-3F2CE3707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6BC16-EA27-4AA1-8D1E-761FBCAE5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E0A5A7F-DB7E-4AAB-ACD1-32762C6DD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55FB3-8166-4C95-A860-335DE06AE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FBAE-A1D4-4F40-AE2A-E891FA72A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DA0F6-058B-412D-AAA0-4FB403984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DA2C9-B30C-4FC5-A87F-5577C8B69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D4A82-DFE0-4641-AF4D-2E95057B1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DEEF2F-AE4C-4DB0-9802-3694C585B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89113-75C9-4D69-9B55-E58FD0CE5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3E48398-A3E5-43D9-8A05-B25CB7234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A42599-513D-44DC-93E9-EB19B62787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16FCB5-A16F-4F46-BB3C-CB9D4DB5A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180D160-B7CE-42E3-A958-8E9A6A957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B464C2-7B2B-4C69-9D2D-D573FF56B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683877-21FF-426F-954B-01456A97C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874CFC-F679-4258-BD4D-89E5B082B3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25B905-6868-41D3-BABA-5164E1DBA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402357-7464-4AEB-ADC5-ED22631D9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438752-C842-4B49-AA8B-4C7E9FA9F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506BD4-7829-4F41-B41D-3DBA81721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F32E216-1796-4195-9A4B-B0F6271902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E8AA71C-BA7E-45FB-8596-DED70256BC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63C608-D53A-436A-B33D-4B4D9298F9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DA747EE-0873-4EAF-8C6C-C5C278B0E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6C0E1-3EC9-4172-AD0F-E41319FC1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97F90-F2AF-4AE6-B6A2-A8AD51871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5D5ED-1AF3-42FE-BA31-4AF9EFDCA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CCDB7-0379-47AB-9CB8-494F9628D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592FF-59D3-43DB-97FC-BD19B0885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53AEF-E0C5-43F9-AD35-A87D568A3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19FAC-4131-4095-A886-1AE1E5475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F7D28-924F-484A-AE2E-AF9116C20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6FE6B-970A-4747-A6BB-CAC2A84D4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2F10E-2424-4CA0-A522-C33AAAF631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BA5587C-0B06-404F-AA85-DC4BB0E63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336FBB-8F09-4CEF-9658-283395A6E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09CA33-0425-4991-95D7-BCF38F831A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DE0804-2961-48A2-8A8A-F87B92B43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DC468-DCBE-437D-B18B-063D391AE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0D21D-53CC-4FAE-B2A6-C733DEC9F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60EE36-4A41-4183-A566-99E3F6DC5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2B580-21B0-4E7F-A420-1DE488C83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2EECB-BD0F-481B-94B8-EE2F69EF6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43BD3-FFF8-4AEC-A51D-1F8CF53AF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816F0-E30F-46D2-9641-D7A0CC5E9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9757DEE-E752-4FCF-998C-122D31A8A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768C74-D4CB-4B88-ACF9-67A775F67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C34F81-A77B-4E93-BFAF-A59783576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AE100B-B03B-4437-959F-DAB1C9408D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58C1F0-A2EC-4667-A27D-A606F44DD9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A9955F-CA14-46D5-A8A6-C6DB09606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E657D-C1C7-47EB-B010-696D847080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DF0AA-4DCE-4E3B-A508-1DD870BDC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420E5-D7D5-474F-B811-F21222EA5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E237A9-3F8B-40F0-809C-9839042F1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A7CFF-C6A2-4F23-AD16-C59A6D252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F1911FA-7AF6-4277-9AA0-048F89807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BD27D-4CC0-48A7-AE5B-BA3AD4FA1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695EA-0985-4971-A04F-9EC1B56A9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CE57C-7864-4163-A48A-06EB8B6E0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A1899A-1F93-4DBB-8749-3346D66D13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F34FC2-0910-4F84-A317-EA9A2127A5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58DE2FE-C91B-4C1A-87DE-A1F7C2CD15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8AC4E4E-A821-424A-AC08-D8E3C3547A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C38C998-0B02-4FEB-8CD3-B1C11A8763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7C6D943-93CA-4F93-83A8-E4BA328C63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474FCA5-BF69-4149-8A59-4FDA0430D3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4EC1761-21FB-428D-A910-82EDABBD2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D488CAA-878D-4A3E-8487-9ACE4C9BEB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2098BEC-5E44-4458-992D-F8BBBD101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A5A9817-6128-4102-8703-5549A8F98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71311E4-33B2-42A8-BA04-EBCF83AF2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70C80A0-BBF4-42C5-9C0B-6FCC87223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C61948B-3464-4F5D-9150-12348457A7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F40E4BC-CE5D-4466-B14F-5246479EDF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551C89E-B274-46F4-8DD1-E22F17F1A9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B32FAAE-E58B-4439-9DBD-DFEADB0650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B4F4A74-0761-4558-BBAD-1023AB11DF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13381-A1E6-4C82-B656-7F02BA1FDEEA}"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E0E4C-73CF-4C91-9238-F9ACC09C549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BEFAB-406C-4543-8041-2F62E2A29D5B}"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6C93F-51D5-4110-BC5B-265530022151}"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5E8A6-705B-40A6-A950-64920ACCF5E5}"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44823-42B1-4B93-9101-41DCC0BDA18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F1765-8092-4477-B3C8-AD260E8E5970}"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18E4F-8ED1-484D-B9F2-10326D06142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A9088-DFBD-46EB-BED0-E2B4D219B6F9}"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9F8D4-04D2-4C96-B932-EDC7123961C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B8645-71EA-4139-97F4-B116B8A590BE}"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786AB-6890-42AF-97F9-D8750D1991A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79E9C-752A-4046-B9C3-DD45F4CF6C65}"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B1562-8F2E-464D-808D-3ED271AEF9F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942EC-B0F2-4122-BD31-83C455B69BFA}"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55488-178D-4287-A839-2C2E90F8BFE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b9bbb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A36D6-9749-4556-9D3E-699F237A3156}" type="datetime">
              <a:rPr b="0" lang="en-US" sz="1300" spc="-1" strike="noStrike">
                <a:solidFill>
                  <a:srgbClr val="b9bbb2"/>
                </a:solidFill>
                <a:latin typeface="Rockwell"/>
              </a:rPr>
              <a:t>07/30/26</a:t>
            </a:fld>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dfe0d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2040B-EE2B-4D23-8670-2ABF075BAA6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Title 3" descr=""/>
          <p:cNvPicPr/>
          <p:nvPr/>
        </p:nvPicPr>
        <p:blipFill>
          <a:blip r:embed="rId2"/>
          <a:stretch/>
        </p:blipFill>
        <p:spPr>
          <a:xfrm>
            <a:off x="450720" y="249120"/>
            <a:ext cx="8242560" cy="1189080"/>
          </a:xfrm>
          <a:prstGeom prst="rect">
            <a:avLst/>
          </a:prstGeom>
          <a:ln w="0">
            <a:noFill/>
          </a:ln>
        </p:spPr>
      </p:pic>
      <p:sp>
        <p:nvSpPr>
          <p:cNvPr id="395"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Rockwell"/>
              </a:rPr>
              <a:t>An Independent nation of people who have a unique common identity and who live together under one government within a defined geographical area.  The nation state possesses sovereignty, i.e., the ability to create policies and enforce laws within its borders without interference from other nations.</a:t>
            </a:r>
            <a:r>
              <a:rPr b="0" lang="en-GB" sz="2400" spc="-1" strike="noStrike">
                <a:solidFill>
                  <a:srgbClr val="ffffff"/>
                </a:solidFill>
                <a:latin typeface="Rockwell"/>
              </a:rPr>
              <a:t> </a:t>
            </a:r>
            <a:endParaRPr b="0" lang="en-US" sz="2400" spc="-1" strike="noStrike">
              <a:solidFill>
                <a:srgbClr val="ffffff"/>
              </a:solidFill>
              <a:latin typeface="Rockwell"/>
            </a:endParaRPr>
          </a:p>
        </p:txBody>
      </p:sp>
      <p:pic>
        <p:nvPicPr>
          <p:cNvPr id="396" name="Content Placeholder 6" descr=""/>
          <p:cNvPicPr/>
          <p:nvPr/>
        </p:nvPicPr>
        <p:blipFill>
          <a:blip r:embed="rId3"/>
          <a:srcRect l="0" t="-33962" r="0" b="-33962"/>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Title 1" descr=""/>
          <p:cNvPicPr/>
          <p:nvPr/>
        </p:nvPicPr>
        <p:blipFill>
          <a:blip r:embed="rId2"/>
          <a:stretch/>
        </p:blipFill>
        <p:spPr>
          <a:xfrm>
            <a:off x="450720" y="249120"/>
            <a:ext cx="8242560" cy="1189080"/>
          </a:xfrm>
          <a:prstGeom prst="rect">
            <a:avLst/>
          </a:prstGeom>
          <a:ln w="0">
            <a:noFill/>
          </a:ln>
        </p:spPr>
      </p:pic>
      <p:sp>
        <p:nvSpPr>
          <p:cNvPr id="398" name=""/>
          <p:cNvSpPr txBox="1"/>
          <p:nvPr/>
        </p:nvSpPr>
        <p:spPr>
          <a:xfrm>
            <a:off x="45720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Rockwell"/>
              </a:rPr>
              <a:t>Nation states are also set apart by their history, language, customs, religion, and sense of community.</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399" name="Content Placeholder 4" descr=""/>
          <p:cNvPicPr/>
          <p:nvPr/>
        </p:nvPicPr>
        <p:blipFill>
          <a:blip r:embed="rId3"/>
          <a:srcRect l="0" t="-27815" r="0" b="-27815"/>
          <a:stretch/>
        </p:blipFill>
        <p:spPr>
          <a:xfrm>
            <a:off x="4648320" y="1646280"/>
            <a:ext cx="4038480" cy="4525920"/>
          </a:xfrm>
          <a:prstGeom prst="rect">
            <a:avLst/>
          </a:prstGeom>
          <a:ln w="0">
            <a:noFill/>
          </a:ln>
        </p:spPr>
      </p:pic>
      <p:pic>
        <p:nvPicPr>
          <p:cNvPr id="400" name="Picture 5" descr=""/>
          <p:cNvPicPr/>
          <p:nvPr/>
        </p:nvPicPr>
        <p:blipFill>
          <a:blip r:embed="rId4"/>
          <a:stretch/>
        </p:blipFill>
        <p:spPr>
          <a:xfrm>
            <a:off x="1146240" y="3965400"/>
            <a:ext cx="2730600" cy="22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450720" y="249120"/>
            <a:ext cx="8242560" cy="1189080"/>
          </a:xfrm>
          <a:prstGeom prst="rect">
            <a:avLst/>
          </a:prstGeom>
          <a:ln w="0">
            <a:noFill/>
          </a:ln>
        </p:spPr>
      </p:pic>
      <p:sp>
        <p:nvSpPr>
          <p:cNvPr id="402" name=""/>
          <p:cNvSpPr txBox="1"/>
          <p:nvPr/>
        </p:nvSpPr>
        <p:spPr>
          <a:xfrm>
            <a:off x="464832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Rockwell"/>
              </a:rPr>
              <a:t>According to international law, recognizes that the authority of a state is not subject to legal control by any other state (i.e. – Canada is no longer run by the Queen).</a:t>
            </a:r>
            <a:endParaRPr b="0" lang="en-US" sz="2800" spc="-1" strike="noStrike">
              <a:solidFill>
                <a:srgbClr val="ffffff"/>
              </a:solidFill>
              <a:latin typeface="Rockwell"/>
            </a:endParaRPr>
          </a:p>
        </p:txBody>
      </p:sp>
      <p:pic>
        <p:nvPicPr>
          <p:cNvPr id="403" name="Content Placeholder 4" descr=""/>
          <p:cNvPicPr/>
          <p:nvPr/>
        </p:nvPicPr>
        <p:blipFill>
          <a:blip r:embed="rId3"/>
          <a:srcRect l="-5738" t="0" r="-5738" b="0"/>
          <a:stretch/>
        </p:blipFill>
        <p:spPr>
          <a:xfrm>
            <a:off x="45720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1" descr=""/>
          <p:cNvPicPr/>
          <p:nvPr/>
        </p:nvPicPr>
        <p:blipFill>
          <a:blip r:embed="rId2"/>
          <a:stretch/>
        </p:blipFill>
        <p:spPr>
          <a:xfrm>
            <a:off x="450720" y="249120"/>
            <a:ext cx="8242560" cy="1189080"/>
          </a:xfrm>
          <a:prstGeom prst="rect">
            <a:avLst/>
          </a:prstGeom>
          <a:ln w="0">
            <a:noFill/>
          </a:ln>
        </p:spPr>
      </p:pic>
      <p:sp>
        <p:nvSpPr>
          <p:cNvPr id="405"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Rockwell"/>
              </a:rPr>
              <a:t>Borders mark the limit of a nations laws and security and link geographical areas with national identities. Sometimes borders are based off of geographical features (mountains, rivers, lakes, etc.) and sometimes are arbitrary lines of latitude and longitude. </a:t>
            </a:r>
            <a:endParaRPr b="0" lang="en-US" sz="2600" spc="-1" strike="noStrike">
              <a:solidFill>
                <a:srgbClr val="ffffff"/>
              </a:solidFill>
              <a:latin typeface="Rockwell"/>
            </a:endParaRPr>
          </a:p>
        </p:txBody>
      </p:sp>
      <p:pic>
        <p:nvPicPr>
          <p:cNvPr id="406" name="Content Placeholder 4" descr=""/>
          <p:cNvPicPr/>
          <p:nvPr/>
        </p:nvPicPr>
        <p:blipFill>
          <a:blip r:embed="rId3"/>
          <a:srcRect l="0" t="-1407" r="0" b="-1407"/>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Title 1" descr=""/>
          <p:cNvPicPr/>
          <p:nvPr/>
        </p:nvPicPr>
        <p:blipFill>
          <a:blip r:embed="rId2"/>
          <a:stretch/>
        </p:blipFill>
        <p:spPr>
          <a:xfrm>
            <a:off x="450720" y="249120"/>
            <a:ext cx="8242560" cy="1189080"/>
          </a:xfrm>
          <a:prstGeom prst="rect">
            <a:avLst/>
          </a:prstGeom>
          <a:ln w="0">
            <a:noFill/>
          </a:ln>
        </p:spPr>
      </p:pic>
      <p:sp>
        <p:nvSpPr>
          <p:cNvPr id="408" name=""/>
          <p:cNvSpPr txBox="1"/>
          <p:nvPr/>
        </p:nvSpPr>
        <p:spPr>
          <a:xfrm>
            <a:off x="45720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is always </a:t>
            </a:r>
            <a:r>
              <a:rPr b="0" lang="en-GB" sz="2800" spc="-1" strike="noStrike">
                <a:solidFill>
                  <a:srgbClr val="ffffff"/>
                </a:solidFill>
                <a:latin typeface="Rockwell"/>
              </a:rPr>
              <a:t>t</a:t>
            </a:r>
            <a:r>
              <a:rPr b="0" lang="en-CA" sz="2800" spc="-1" strike="noStrike">
                <a:solidFill>
                  <a:srgbClr val="ffffff"/>
                </a:solidFill>
                <a:latin typeface="Rockwell"/>
              </a:rPr>
              <a:t>he issue of human rights behind borders</a:t>
            </a:r>
            <a:r>
              <a:rPr b="0" lang="en-GB" sz="2800" spc="-1" strike="noStrike">
                <a:solidFill>
                  <a:srgbClr val="ffffff"/>
                </a:solidFill>
                <a:latin typeface="Rockwell"/>
              </a:rPr>
              <a:t>. When does the world step in to defend those in need?</a:t>
            </a:r>
            <a:endParaRPr b="0" lang="en-US" sz="2800" spc="-1" strike="noStrike">
              <a:solidFill>
                <a:srgbClr val="ffffff"/>
              </a:solidFill>
              <a:latin typeface="Rockwell"/>
            </a:endParaRPr>
          </a:p>
        </p:txBody>
      </p:sp>
      <p:pic>
        <p:nvPicPr>
          <p:cNvPr id="409" name="Content Placeholder 4" descr=""/>
          <p:cNvPicPr/>
          <p:nvPr/>
        </p:nvPicPr>
        <p:blipFill>
          <a:blip r:embed="rId3"/>
          <a:srcRect l="0" t="-10903" r="0" b="-10903"/>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Title 1" descr=""/>
          <p:cNvPicPr/>
          <p:nvPr/>
        </p:nvPicPr>
        <p:blipFill>
          <a:blip r:embed="rId2"/>
          <a:stretch/>
        </p:blipFill>
        <p:spPr>
          <a:xfrm>
            <a:off x="450720" y="249120"/>
            <a:ext cx="8242560" cy="1189080"/>
          </a:xfrm>
          <a:prstGeom prst="rect">
            <a:avLst/>
          </a:prstGeom>
          <a:ln w="0">
            <a:noFill/>
          </a:ln>
        </p:spPr>
      </p:pic>
      <p:sp>
        <p:nvSpPr>
          <p:cNvPr id="411"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word “democracy” literally means “rule by the people”, taken from the Greek terms, demos (meaning “people”), and kratos (meaning “rule”). It is a political concept and form of government, where all people are supposed to have equal voices in shaping policy (typically expressed through a vote for representatives).</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12" name=""/>
          <p:cNvSpPr txBox="1"/>
          <p:nvPr/>
        </p:nvSpPr>
        <p:spPr>
          <a:xfrm>
            <a:off x="464832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Decision making system, based on the rule of the majority</a:t>
            </a:r>
            <a:r>
              <a:rPr b="0" lang="en-GB" sz="2400" spc="-1" strike="noStrike">
                <a:solidFill>
                  <a:srgbClr val="ffffff"/>
                </a:solidFill>
                <a:latin typeface="Rockwell"/>
              </a:rPr>
              <a:t>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rotection for the rights of minorities</a:t>
            </a:r>
            <a:r>
              <a:rPr b="0" lang="en-GB" sz="2400" spc="-1" strike="noStrike">
                <a:solidFill>
                  <a:srgbClr val="ffffff"/>
                </a:solidFill>
                <a:latin typeface="Rockwell"/>
              </a:rPr>
              <a:t>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ccountability of the government to the electorate</a:t>
            </a:r>
            <a:r>
              <a:rPr b="0" lang="en-GB" sz="2400" spc="-1" strike="noStrike">
                <a:solidFill>
                  <a:srgbClr val="ffffff"/>
                </a:solidFill>
                <a:latin typeface="Rockwell"/>
              </a:rPr>
              <a:t>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Guarantees for freedom of expression, assembly, religion and the press</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ule of law that applies to all citizens</a:t>
            </a:r>
            <a:r>
              <a:rPr b="0" lang="en-GB" sz="2400" spc="-1" strike="noStrike">
                <a:solidFill>
                  <a:srgbClr val="ffffff"/>
                </a:solidFill>
                <a:latin typeface="Rockwell"/>
              </a:rPr>
              <a:t> </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450720" y="249120"/>
            <a:ext cx="8242560" cy="1189080"/>
          </a:xfrm>
          <a:prstGeom prst="rect">
            <a:avLst/>
          </a:prstGeom>
          <a:ln w="0">
            <a:noFill/>
          </a:ln>
        </p:spPr>
      </p:pic>
      <p:sp>
        <p:nvSpPr>
          <p:cNvPr id="414" name=""/>
          <p:cNvSpPr txBox="1"/>
          <p:nvPr/>
        </p:nvSpPr>
        <p:spPr>
          <a:xfrm>
            <a:off x="457200" y="1646280"/>
            <a:ext cx="403848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A state that limits the freedoms of its citizens, demands strict obedience to government authority, and often does not allow criticism of its policies. </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Authoritarian government may be an Absolute Monarchy (King, Queen, Sultan, or Emir), One-Party Nation State (only one political party allowed in the country),  or a Military-Run State (One or more military leaders running the country)</a:t>
            </a:r>
            <a:r>
              <a:rPr b="0" lang="en-GB" sz="2200" spc="-1" strike="noStrike">
                <a:solidFill>
                  <a:srgbClr val="ffffff"/>
                </a:solidFill>
                <a:latin typeface="Rockwell"/>
              </a:rPr>
              <a:t> </a:t>
            </a:r>
            <a:endParaRPr b="0" lang="en-US" sz="2200" spc="-1" strike="noStrike">
              <a:solidFill>
                <a:srgbClr val="ffffff"/>
              </a:solidFill>
              <a:latin typeface="Rockwell"/>
            </a:endParaRPr>
          </a:p>
        </p:txBody>
      </p:sp>
      <p:pic>
        <p:nvPicPr>
          <p:cNvPr id="415" name="Content Placeholder 4" descr=""/>
          <p:cNvPicPr/>
          <p:nvPr/>
        </p:nvPicPr>
        <p:blipFill>
          <a:blip r:embed="rId3"/>
          <a:srcRect l="0" t="-39496" r="0" b="-39496"/>
          <a:stretch/>
        </p:blipFill>
        <p:spPr>
          <a:xfrm>
            <a:off x="4648320" y="164628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Title 1" descr=""/>
          <p:cNvPicPr/>
          <p:nvPr/>
        </p:nvPicPr>
        <p:blipFill>
          <a:blip r:embed="rId2"/>
          <a:stretch/>
        </p:blipFill>
        <p:spPr>
          <a:xfrm>
            <a:off x="450720" y="249120"/>
            <a:ext cx="8242560" cy="1189080"/>
          </a:xfrm>
          <a:prstGeom prst="rect">
            <a:avLst/>
          </a:prstGeom>
          <a:ln w="0">
            <a:noFill/>
          </a:ln>
        </p:spPr>
      </p:pic>
      <p:sp>
        <p:nvSpPr>
          <p:cNvPr id="417" name=""/>
          <p:cNvSpPr txBox="1"/>
          <p:nvPr/>
        </p:nvSpPr>
        <p:spPr>
          <a:xfrm>
            <a:off x="45720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classless society in which all land, capital, and means of production is collectively owned by the citizens.</a:t>
            </a:r>
            <a:r>
              <a:rPr b="0" lang="en-GB" sz="2800" spc="-1" strike="noStrike">
                <a:solidFill>
                  <a:srgbClr val="ffffff"/>
                </a:solidFill>
                <a:latin typeface="Rockwell"/>
              </a:rPr>
              <a:t> </a:t>
            </a:r>
            <a:endParaRPr b="0" lang="en-US" sz="2800" spc="-1" strike="noStrike">
              <a:solidFill>
                <a:srgbClr val="ffffff"/>
              </a:solidFill>
              <a:latin typeface="Rockwell"/>
            </a:endParaRPr>
          </a:p>
        </p:txBody>
      </p:sp>
      <p:sp>
        <p:nvSpPr>
          <p:cNvPr id="418" name=""/>
          <p:cNvSpPr txBox="1"/>
          <p:nvPr/>
        </p:nvSpPr>
        <p:spPr>
          <a:xfrm>
            <a:off x="4648320" y="1646280"/>
            <a:ext cx="403848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rue Communism has never existed, but many Socialist states call themselves Communist.</a:t>
            </a:r>
            <a:r>
              <a:rPr b="0" lang="en-GB" sz="2800" spc="-1" strike="noStrike">
                <a:solidFill>
                  <a:srgbClr val="ffffff"/>
                </a:solidFill>
                <a:latin typeface="Rockwell"/>
              </a:rPr>
              <a:t> </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04:03:48Z</dcterms:created>
  <dc:creator>Local Administrator</dc:creator>
  <dc:description/>
  <dc:language>en-US</dc:language>
  <cp:lastModifiedBy>Local Administrator</cp:lastModifiedBy>
  <dcterms:modified xsi:type="dcterms:W3CDTF">2011-03-03T11:41:48Z</dcterms:modified>
  <cp:revision>3</cp:revision>
  <dc:subject/>
  <dc:title>The Nation State: </dc:title>
</cp:coreProperties>
</file>